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186-EB17-443A-BF83-8B4E6BD1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560-BD94-4C17-9B16-FFD6FAD9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CCD-A8BB-4555-BB20-34015E7A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DA6-F282-4C25-8101-EE253A90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8DA-AE57-477A-91E8-355E6C3D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3B6-8CCF-4AB6-8C15-B16C0649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B6F-062B-464B-92F7-8D8B2C89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165-5BE5-46D9-A4C9-AEB31808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F39-DFCA-4CB6-A746-CE418287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07B-C8AB-4DCA-94C3-59666E81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D79-7181-45FB-B7E0-6D888283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BE8-79C6-4F1D-8513-09C88389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8E80-ABE9-4F81-9095-8A0E84D9D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Me llamo____________ 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     Clase 6NH La fecha es el 9 de enero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Miras fútbol en la televis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parts of the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317484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33526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5486400"/>
            <a:ext cx="22860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5791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971800" y="4724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715000" y="41144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81952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791320" y="49525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5410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3505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472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4572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248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3886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5622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e las respuestas de l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5 (1-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un compañero,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5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Mínimo 5 preguntas y respuestas; escriban en sus cuader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96252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3:46:55Z</dcterms:created>
  <dc:creator>Helen Zumaeta</dc:creator>
  <dc:description/>
  <dc:language>en-US</dc:language>
  <cp:lastModifiedBy>Helen Zumaeta</cp:lastModifiedBy>
  <dcterms:modified xsi:type="dcterms:W3CDTF">2013-01-09T17:55:05Z</dcterms:modified>
  <cp:revision>24</cp:revision>
  <dc:subject/>
  <dc:title>Me llamo____________  Clase 7 IL La fecha es el 4 de noviembre del 2010</dc:title>
</cp:coreProperties>
</file>